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29FE-F11F-4044-A6AC-5AC9BDC7D2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A27E-D0AD-4A62-8B66-86DC4E077B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4C8-5726-4DB5-ABB8-E731455D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9DD-8D27-4FA2-BF3D-8D084E21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97B-E80C-45F8-A13F-2B587B99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1FE-932F-45E2-BA06-320DF7BF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BD6-2B8B-483A-873E-3FA03D9D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399-75E9-4E22-836D-D57773AA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422-3AD5-494D-84AC-D5A34AA7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D59-0961-4ECE-9E4E-FF3B1479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7E6-E0AC-4A2D-AF00-851CA262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8B9-09BE-461A-8264-D6FC25C5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795-984C-450D-9EE3-41B47325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B74-8542-4819-810D-97A4B075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240A-72B2-43B1-B6EF-E51BA772F2E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46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-142920" y="170820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υνα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καθημεν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υνασθ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κειτ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2786040" y="22496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 Present Middl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2786040" y="285120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/Neuter Dative Pl., Present Middle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786040" y="4086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Middle In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2786040" y="46926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 Imperfect Middl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41200" y="46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-142920" y="157176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οἰδ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ᾐδ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ἰδ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ἰδ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εἰδω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786040" y="2112840"/>
            <a:ext cx="607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 Present Active Indicative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ἰδ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786040" y="2714760"/>
            <a:ext cx="607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 Imperfect Active Indicative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ἰδ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2803680" y="3322800"/>
            <a:ext cx="5072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Active Infinitive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ρα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800440" y="3959280"/>
            <a:ext cx="428616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 Nominative Sing., Aorist Active Participl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ρα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2803680" y="5200560"/>
            <a:ext cx="557208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 Nominative Sing., Present Active Participl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ἰδ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8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14200" y="1357200"/>
            <a:ext cx="457200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ελω αὐτον γαμειν μ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ι διδασκαλον διδασκ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ηλθεν ὡστε αὐτου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αγαγ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υνασθε ἐσθιειν ἀρτον ἐν τῳ ἱερῳ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ιλω την σοφιαν ὡστε ἀκουει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υ διδασκαλου μ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786200" y="211284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nt him to marry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786200" y="261936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acher must t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786200" y="31194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pproached so they depa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800600" y="412596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 able to eat bread in the te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803840" y="5157720"/>
            <a:ext cx="38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love wisdom so I listen to my teac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0" y="1292400"/>
            <a:ext cx="421488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δυναμεθα λεγειν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ελω εἰδεναι 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τα το προσευχεσθαι ἐξηλθο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 της συναγωγ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 χηρα ἠν πτωχη ὡστε μη ἐχει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λλ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δον ὁτι δει αὐτην ἀποθαν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ἰδατε τας ἐπαγγελιας τ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ἰωνιου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313160" y="197640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ere able to speak to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313160" y="243216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nt to know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313160" y="286056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praying I/they left 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313160" y="37720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idow was poor so she did not have m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327560" y="467352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/they saw that it was necessary for her to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330800" y="55548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know the eternal promi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0"/>
          <p:cNvSpPr/>
          <p:nvPr/>
        </p:nvSpPr>
        <p:spPr>
          <a:xfrm>
            <a:off x="4586400" y="585144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ι σε δουλευειν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ι σε εἰναι δουλο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867360" y="629280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214200" y="1184400"/>
            <a:ext cx="4857840" cy="60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λθες προς το προσκυνησ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ῳ θεῳ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μαθηται ἐφυγον ὡστε τους                                            στρατιωτας μη εὑρειν μηδε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you know hi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fore sitting down they gave tha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so amazed that the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shipped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ust be a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4572000" y="187488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you come to worship (with the aim of worshipping) G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572000" y="276552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sciples fled so the soldiers found no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586400" y="406548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ᾐδεις αὐτο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586400" y="45277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 του καθησθαι εὐχαριστησα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4586400" y="497376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(οὑτως) ἐθαυμαζον ὡστε προσκυνησαι αὐτ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8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14200" y="1285920"/>
            <a:ext cx="4214880" cy="47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η λεγετω τῳ πονηρ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θετω ἡ βασιλεια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ι την βασιλειαν ἐλθ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κυνωμεν τῳ θε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κυνειτωσαν τῳ θε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α δαιμονια ἐκβληθητ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790800" y="2043000"/>
            <a:ext cx="46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should not speak to the evil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800520" y="2548080"/>
            <a:ext cx="52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 your kingdom come!/ May your kingdom co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813120" y="35575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kingdom must c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803760" y="405756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 us worship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3813120" y="457524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hould worship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3803760" y="507204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mons should be cast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8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214200" y="1285920"/>
            <a:ext cx="421488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ρθη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λλα εἰληφα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κουσα το ῥηθ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ωσεις τον ἐσχηκοτα δαιμονι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ἀρχιερεις εἰληφασιν τα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ραφ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δον ἀνεῳγμενον οὐρα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4572000" y="20430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taken (awa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4572000" y="25272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received many th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572000" y="3033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eard what was s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4572000" y="355752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you save the man who has a dem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572000" y="45752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ief priests have taken the scrip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4572000" y="55800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saw heaven o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0:14:35Z</dcterms:created>
  <dc:creator>Sarah</dc:creator>
  <dc:description/>
  <dc:language>en-US</dc:language>
  <cp:lastModifiedBy>Sarah</cp:lastModifiedBy>
  <dcterms:modified xsi:type="dcterms:W3CDTF">2009-08-15T18:23:44Z</dcterms:modified>
  <cp:revision>20</cp:revision>
  <dc:subject/>
  <dc:title>Slide 1</dc:title>
</cp:coreProperties>
</file>